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3405-7FA3-43CF-9D00-09445AE0F2F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9BD4-BCF5-4CB9-A9A9-1B6F7AE26DC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52A4-EE05-4534-A287-DD9F0C0FE1E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69BE-474F-4F5D-8B33-FA0CB5C8465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0B0E-DB5A-42FB-896A-5CFAF9D3F97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46C9-C697-40A7-B24D-CC5E02C57C4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3A9A-2469-4BA2-9D06-4A92D6827B0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0940-4003-4447-9D2D-D9A20DBD7C1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3D3A-9FFF-4CA2-B6F2-4DD6A9A48B9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DEDA-8F22-4D6C-AAB9-4EFF01839F7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7402-1AB0-4D2B-BDF9-987F6F55154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3531-42EB-4193-9F31-4D0FD7C4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0809-F424-43E0-A81A-22DB1F2F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149F-AC6E-4D2C-8892-C0A3CB0F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3F04-C9AC-4E95-9A08-8F3D5701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C562-3758-41B4-9840-131300F6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A703-3DEE-4C25-BF59-1291E535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4921-DE22-4971-997B-8F7C709F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06D1-DA0B-4D7A-B4DC-1E12B90D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A0F8-7A72-41C1-BE96-A205D072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5C41-5C64-4C5A-859D-26384746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7AEE-4BFF-4344-B78C-3670018B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81B4-F9B5-42D9-880C-29F05EFA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AFD3-173D-4C2D-81D8-3D93705E789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stcremonini@regione.emilia-romagna.it" TargetMode="External"/><Relationship Id="rId2" Type="http://schemas.openxmlformats.org/officeDocument/2006/relationships/hyperlink" Target="http://anagrafestudenti.scuolaer.it/" TargetMode="External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136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3203640" y="1125360"/>
            <a:ext cx="2533680" cy="3430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6"/>
          <p:cNvSpPr/>
          <p:nvPr/>
        </p:nvSpPr>
        <p:spPr>
          <a:xfrm>
            <a:off x="539640" y="2857680"/>
            <a:ext cx="82803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6452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857160" y="2500200"/>
            <a:ext cx="750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nagrafe Regiona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egli Studen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1643040" y="1643040"/>
            <a:ext cx="59292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009d"/>
                </a:solidFill>
                <a:latin typeface="Arial"/>
              </a:rPr>
              <a:t>Direzione Generale Cultura, Formazione e Lav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5009d"/>
                </a:solidFill>
                <a:latin typeface="Arial"/>
              </a:rPr>
              <a:t>Servizio Monitoraggio e Coordinamento dei Sistemi Informativi dell’Istruzione,della Formazione e del Lavo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Immagine 7" descr="Piter_Logo_1.jpg"/>
          <p:cNvPicPr/>
          <p:nvPr/>
        </p:nvPicPr>
        <p:blipFill>
          <a:blip r:embed="rId2"/>
          <a:stretch/>
        </p:blipFill>
        <p:spPr>
          <a:xfrm>
            <a:off x="4643280" y="214200"/>
            <a:ext cx="1643400" cy="480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"/>
          <p:cNvSpPr/>
          <p:nvPr/>
        </p:nvSpPr>
        <p:spPr>
          <a:xfrm>
            <a:off x="928800" y="3929040"/>
            <a:ext cx="7286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Verdana"/>
              </a:rPr>
              <a:t>Una grande banca dati per una scuola di qualità e senza esclusion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2c9d"/>
                </a:solidFill>
                <a:latin typeface="Verdana"/>
              </a:rPr>
              <a:t>Stefano Cremonini – Regione Emilia-Romagn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ttangolo 9"/>
          <p:cNvSpPr/>
          <p:nvPr/>
        </p:nvSpPr>
        <p:spPr>
          <a:xfrm>
            <a:off x="5067360" y="5643720"/>
            <a:ext cx="32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5009d"/>
                </a:solidFill>
                <a:latin typeface="Verdana"/>
              </a:rPr>
              <a:t>Bologna, 15 di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83530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3300"/>
                </a:solidFill>
                <a:latin typeface="Calibri"/>
              </a:rPr>
              <a:t>Tabelle indicatori: query ARS (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468360" y="2060640"/>
            <a:ext cx="806904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6400" indent="-536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9640" y="1773360"/>
          <a:ext cx="8318520" cy="4182840"/>
        </p:xfrm>
        <a:graphic>
          <a:graphicData uri="http://schemas.openxmlformats.org/drawingml/2006/table">
            <a:tbl>
              <a:tblPr/>
              <a:tblGrid>
                <a:gridCol w="1675080"/>
                <a:gridCol w="664344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Tabell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Scuola primaria e secondaria di I gr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Query ARS: Livelli di approfondimento e riparti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empo funzion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Giudizio sintetico esiti esami di licenza ( 3.a medi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Tabella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cuola secondaria II gr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</a:t>
                      </a: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dirizzo di stud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</a:t>
                      </a: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requenza percorsi integr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</a:t>
                      </a: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requenza corso ser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Tabella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ati Popolazione resid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nfronto dati popolazione residente/ alunni in Obbligo formativo in Scuola, FP e A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 dati sono disponibili nelle ripartizion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er provi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er comune di residen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er anni di nasc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er gen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Tabella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lunni in Obbligo Formativ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icerche Formazione professionale e Apprendista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 dati sono disponibili nelle ripartizion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</a:t>
                      </a: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er provi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</a:t>
                      </a: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er comune di residen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</a:t>
                      </a: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er anni di nasc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</a:t>
                      </a: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er gen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</a:t>
                      </a: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ttagli dei percorsi formativi – FP o A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35344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3300"/>
                </a:solidFill>
                <a:latin typeface="Calibri"/>
              </a:rPr>
              <a:t>Tabelle indicatori: ottobre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468360" y="2060640"/>
            <a:ext cx="806904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6400" indent="-536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2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500040" y="1857240"/>
            <a:ext cx="792324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6400" indent="-536400">
              <a:lnSpc>
                <a:spcPct val="100000"/>
              </a:lnSpc>
              <a:spcBef>
                <a:spcPts val="499"/>
              </a:spcBef>
              <a:buSzPct val="1541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alibri"/>
              </a:rPr>
              <a:t>Dispersione scolastica e form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536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Arial"/>
                <a:ea typeface="Arial"/>
              </a:rPr>
              <a:t>- Evas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536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Arial"/>
                <a:ea typeface="Arial"/>
              </a:rPr>
              <a:t>- </a:t>
            </a:r>
            <a:r>
              <a:rPr b="1" lang="it-IT" sz="1400" spc="-1" strike="noStrike">
                <a:solidFill>
                  <a:srgbClr val="cc0000"/>
                </a:solidFill>
                <a:latin typeface="Arial"/>
                <a:ea typeface="Arial"/>
              </a:rPr>
              <a:t>Drop-o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spcBef>
                <a:spcPts val="451"/>
              </a:spcBef>
              <a:buSzPct val="1543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Insuccesso scolastico - possibili fattori di causa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  <a:ea typeface="Arial"/>
              </a:rPr>
              <a:t>- </a:t>
            </a:r>
            <a:r>
              <a:rPr b="1" lang="it-IT" sz="1400" spc="-1" strike="noStrike">
                <a:solidFill>
                  <a:srgbClr val="cc0000"/>
                </a:solidFill>
                <a:latin typeface="Arial"/>
                <a:ea typeface="Arial"/>
              </a:rPr>
              <a:t>Ritardi accumulati nei vari anni di corso ( ripetenze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Arial"/>
                <a:ea typeface="Arial"/>
              </a:rPr>
              <a:t>- </a:t>
            </a:r>
            <a:r>
              <a:rPr b="1" lang="it-IT" sz="1400" spc="-1" strike="noStrike">
                <a:solidFill>
                  <a:srgbClr val="cc0000"/>
                </a:solidFill>
                <a:latin typeface="Arial"/>
                <a:ea typeface="Arial"/>
              </a:rPr>
              <a:t>Giudizio negativo scuola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Arial"/>
                <a:ea typeface="Arial"/>
              </a:rPr>
              <a:t>- </a:t>
            </a:r>
            <a:r>
              <a:rPr b="1" lang="it-IT" sz="1400" spc="-1" strike="noStrike">
                <a:solidFill>
                  <a:srgbClr val="cc0000"/>
                </a:solidFill>
                <a:latin typeface="Arial"/>
                <a:ea typeface="Arial"/>
              </a:rPr>
              <a:t>Esiti negativi nelle prime classi di scuola superi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Arial"/>
                <a:ea typeface="Arial"/>
              </a:rPr>
              <a:t>- Giudizio sospeso ( ex promossi con debito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Arial"/>
                <a:ea typeface="Arial"/>
              </a:rPr>
              <a:t>- Passaggi ad altra scuola ( trasferiti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Arial"/>
                <a:ea typeface="Arial"/>
              </a:rPr>
              <a:t>- Passaggi ad altro indirizzo di stud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spcBef>
                <a:spcPts val="451"/>
              </a:spcBef>
              <a:buSzPct val="1543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Altri indic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Arial"/>
                <a:ea typeface="Arial"/>
              </a:rPr>
              <a:t>- Alunni con cittadinanza non itali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Arial"/>
                <a:ea typeface="Arial"/>
              </a:rPr>
              <a:t>- Mobilità provinciale e interprovinc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Arial"/>
                <a:ea typeface="Arial"/>
              </a:rPr>
              <a:t>- Frequenza percorsi integrati Scuola - Formazione Profess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Arial"/>
                <a:ea typeface="Arial"/>
              </a:rPr>
              <a:t>- Esiti scolastici e confronto con il proseguimento degli stu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500040" y="2000160"/>
            <a:ext cx="8069400" cy="35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6400" indent="-536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2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ttangolo 9"/>
          <p:cNvSpPr/>
          <p:nvPr/>
        </p:nvSpPr>
        <p:spPr>
          <a:xfrm>
            <a:off x="857160" y="1000080"/>
            <a:ext cx="7215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Arial"/>
              </a:rPr>
              <a:t>Mobilità studenti </a:t>
            </a:r>
            <a:r>
              <a:rPr b="0" lang="it-IT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00000"/>
                </a:solidFill>
                <a:latin typeface="Arial"/>
              </a:rPr>
              <a:t>a.s 2007-2008 - anni monitorati 1990-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42960" y="2071800"/>
          <a:ext cx="7643880" cy="3500280"/>
        </p:xfrm>
        <a:graphic>
          <a:graphicData uri="http://schemas.openxmlformats.org/drawingml/2006/table">
            <a:tbl>
              <a:tblPr/>
              <a:tblGrid>
                <a:gridCol w="650880"/>
                <a:gridCol w="909720"/>
                <a:gridCol w="1288800"/>
                <a:gridCol w="1100160"/>
                <a:gridCol w="1098720"/>
                <a:gridCol w="828720"/>
                <a:gridCol w="1006200"/>
                <a:gridCol w="760680"/>
              </a:tblGrid>
              <a:tr h="723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sidenti provincia in scuole R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residenti RER in scuole provinc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do in-out- mobilità R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enti extra rer in rer per provinc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7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7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7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2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7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1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7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7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1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7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7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7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7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7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500040" y="2000160"/>
            <a:ext cx="8069400" cy="35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6400" indent="-536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2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magine 7" descr="mappa-regione-tracciati-01.jpg"/>
          <p:cNvPicPr/>
          <p:nvPr/>
        </p:nvPicPr>
        <p:blipFill>
          <a:blip r:embed="rId1"/>
          <a:stretch/>
        </p:blipFill>
        <p:spPr>
          <a:xfrm>
            <a:off x="571680" y="1785960"/>
            <a:ext cx="7872120" cy="4429080"/>
          </a:xfrm>
          <a:prstGeom prst="rect">
            <a:avLst/>
          </a:prstGeom>
          <a:ln w="0">
            <a:noFill/>
          </a:ln>
        </p:spPr>
      </p:pic>
      <p:sp>
        <p:nvSpPr>
          <p:cNvPr id="211" name="Rettangolo 9"/>
          <p:cNvSpPr/>
          <p:nvPr/>
        </p:nvSpPr>
        <p:spPr>
          <a:xfrm>
            <a:off x="857160" y="1000080"/>
            <a:ext cx="7215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Arial"/>
              </a:rPr>
              <a:t>Mobilità studenti </a:t>
            </a:r>
            <a:r>
              <a:rPr b="0" lang="it-IT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00000"/>
                </a:solidFill>
                <a:latin typeface="Arial"/>
              </a:rPr>
              <a:t>a.s 2007-2008 - anni monitorati 1990-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500040" y="2000160"/>
            <a:ext cx="8069400" cy="35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6400" indent="-536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2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magine 6" descr="mappa-regione-tracciati-02.jpg"/>
          <p:cNvPicPr/>
          <p:nvPr/>
        </p:nvPicPr>
        <p:blipFill>
          <a:blip r:embed="rId1"/>
          <a:stretch/>
        </p:blipFill>
        <p:spPr>
          <a:xfrm>
            <a:off x="785880" y="1071720"/>
            <a:ext cx="7429320" cy="5072040"/>
          </a:xfrm>
          <a:prstGeom prst="rect">
            <a:avLst/>
          </a:prstGeom>
          <a:ln w="0">
            <a:noFill/>
          </a:ln>
        </p:spPr>
      </p:pic>
      <p:sp>
        <p:nvSpPr>
          <p:cNvPr id="216" name="Rettangolo 8"/>
          <p:cNvSpPr/>
          <p:nvPr/>
        </p:nvSpPr>
        <p:spPr>
          <a:xfrm>
            <a:off x="357120" y="1000080"/>
            <a:ext cx="35006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Arial"/>
              </a:rPr>
              <a:t>Mobilità studenti </a:t>
            </a:r>
            <a:r>
              <a:rPr b="0" lang="it-IT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Arial"/>
              </a:rPr>
              <a:t>a.s 2007-2008 - anni monitorati 1990-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500040" y="2000160"/>
            <a:ext cx="8069400" cy="35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6400" indent="-536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2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ttangolo 9"/>
          <p:cNvSpPr/>
          <p:nvPr/>
        </p:nvSpPr>
        <p:spPr>
          <a:xfrm>
            <a:off x="785880" y="857160"/>
            <a:ext cx="7215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Arial"/>
              </a:rPr>
              <a:t>Monitoraggio diritto – dov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00000"/>
                </a:solidFill>
                <a:latin typeface="Arial"/>
              </a:rPr>
              <a:t>a.s 2007-2008 - anni monitorati 1990-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071800" y="4071960"/>
          <a:ext cx="5500440" cy="2417760"/>
        </p:xfrm>
        <a:graphic>
          <a:graphicData uri="http://schemas.openxmlformats.org/drawingml/2006/table">
            <a:tbl>
              <a:tblPr/>
              <a:tblGrid>
                <a:gridCol w="1320840"/>
                <a:gridCol w="750600"/>
                <a:gridCol w="765360"/>
                <a:gridCol w="544320"/>
                <a:gridCol w="590760"/>
                <a:gridCol w="768240"/>
                <a:gridCol w="760320"/>
              </a:tblGrid>
              <a:tr h="174960">
                <a:tc gridSpan="6"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ella 2 - Esiti -  Rilevazione  30 giugno 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1212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uentan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tirati e drop ou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 cui in F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 cui in A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e drop-ou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za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749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log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9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rra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0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lì- C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9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6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9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9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acenz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9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ven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9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gio-Emil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6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6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9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mi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e Emilia-Romag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6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357120" y="1643040"/>
          <a:ext cx="5143680" cy="2241720"/>
        </p:xfrm>
        <a:graphic>
          <a:graphicData uri="http://schemas.openxmlformats.org/drawingml/2006/table">
            <a:tbl>
              <a:tblPr/>
              <a:tblGrid>
                <a:gridCol w="1104840"/>
                <a:gridCol w="462240"/>
                <a:gridCol w="542880"/>
                <a:gridCol w="422280"/>
                <a:gridCol w="539640"/>
                <a:gridCol w="2071800"/>
              </a:tblGrid>
              <a:tr h="160920">
                <a:tc gridSpan="6"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ella 1 -  Situazione di partenza -  Rilevazione 30 settembre 2007 -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4"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 nasci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log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rr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lì- Cese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acen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ven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gio-Emi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mi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e Emilia-Romag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6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5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8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4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23" name="Freccia curva 15"/>
          <p:cNvSpPr/>
          <p:nvPr/>
        </p:nvSpPr>
        <p:spPr>
          <a:xfrm rot="5400000">
            <a:off x="5527080" y="2565360"/>
            <a:ext cx="1513080" cy="150012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500040" y="2000160"/>
            <a:ext cx="8069400" cy="35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6400" indent="-536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2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magine 6" descr="mappa-regione-tracciati-03.gif"/>
          <p:cNvPicPr/>
          <p:nvPr/>
        </p:nvPicPr>
        <p:blipFill>
          <a:blip r:embed="rId1"/>
          <a:stretch/>
        </p:blipFill>
        <p:spPr>
          <a:xfrm>
            <a:off x="714240" y="1428840"/>
            <a:ext cx="7448760" cy="4629240"/>
          </a:xfrm>
          <a:prstGeom prst="rect">
            <a:avLst/>
          </a:prstGeom>
          <a:ln w="0">
            <a:noFill/>
          </a:ln>
        </p:spPr>
      </p:pic>
      <p:sp>
        <p:nvSpPr>
          <p:cNvPr id="228" name="Rettangolo 8"/>
          <p:cNvSpPr/>
          <p:nvPr/>
        </p:nvSpPr>
        <p:spPr>
          <a:xfrm>
            <a:off x="428760" y="1071720"/>
            <a:ext cx="392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Arial"/>
              </a:rPr>
              <a:t>Monitoraggio Diritto-Dov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Arial"/>
              </a:rPr>
              <a:t>a.s. 2007-2008 – Drop- outs, per provi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3"/>
          <p:cNvSpPr/>
          <p:nvPr/>
        </p:nvSpPr>
        <p:spPr>
          <a:xfrm>
            <a:off x="500040" y="2000160"/>
            <a:ext cx="8069400" cy="35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6400" indent="-536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2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Immagine 8" descr="mappa-regione-tracciati-04.gif"/>
          <p:cNvPicPr/>
          <p:nvPr/>
        </p:nvPicPr>
        <p:blipFill>
          <a:blip r:embed="rId1"/>
          <a:stretch/>
        </p:blipFill>
        <p:spPr>
          <a:xfrm>
            <a:off x="1428840" y="1071720"/>
            <a:ext cx="7127640" cy="5052960"/>
          </a:xfrm>
          <a:prstGeom prst="rect">
            <a:avLst/>
          </a:prstGeom>
          <a:ln w="0">
            <a:noFill/>
          </a:ln>
        </p:spPr>
      </p:pic>
      <p:sp>
        <p:nvSpPr>
          <p:cNvPr id="233" name="Rettangolo 9"/>
          <p:cNvSpPr/>
          <p:nvPr/>
        </p:nvSpPr>
        <p:spPr>
          <a:xfrm>
            <a:off x="428760" y="10717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Arial"/>
              </a:rPr>
              <a:t>a.s. 2007-2008 – Drop-outs, per anno di nascita, per provi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357120" y="1125360"/>
            <a:ext cx="83440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36600" indent="-336600"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nagrafe Regionale degli Stud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 progetto della Regione Emilia-Romagna</a:t>
            </a:r>
            <a:br>
              <a:rPr sz="2400"/>
            </a:br>
            <a:br>
              <a:rPr sz="24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rezione Generale Cultura, Formazione e Lavoro</a:t>
            </a:r>
            <a:br>
              <a:rPr sz="18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Servizio Monitoraggio e Coordinamento dei Sistemi Informativi dell’Istruzione,della Formazione e del Lavor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24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Responsabile di progetto: Stefano Cremonini</a:t>
            </a:r>
            <a:br>
              <a:rPr sz="2000"/>
            </a:b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stcremonini@regione.emilia-romagna.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24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24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web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anagrafestudenti.scuolaer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24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24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24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24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24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 algn="just">
              <a:lnSpc>
                <a:spcPct val="8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offertaformativa"/>
          <p:cNvPicPr/>
          <p:nvPr/>
        </p:nvPicPr>
        <p:blipFill>
          <a:blip r:embed="rId1"/>
          <a:stretch/>
        </p:blipFill>
        <p:spPr>
          <a:xfrm>
            <a:off x="500040" y="1285920"/>
            <a:ext cx="3014640" cy="12729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71" name="Rectangle 3"/>
          <p:cNvSpPr/>
          <p:nvPr/>
        </p:nvSpPr>
        <p:spPr>
          <a:xfrm>
            <a:off x="3643200" y="1000080"/>
            <a:ext cx="50007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Chi sono? Quanti so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5009d"/>
                </a:solidFill>
                <a:latin typeface="Arial"/>
                <a:ea typeface="Times New Roman"/>
              </a:rPr>
              <a:t>  </a:t>
            </a:r>
            <a:r>
              <a:rPr b="1" lang="it-IT" sz="1600" spc="-1" strike="noStrike">
                <a:solidFill>
                  <a:srgbClr val="15009d"/>
                </a:solidFill>
                <a:latin typeface="Arial"/>
                <a:ea typeface="Times New Roman"/>
              </a:rPr>
              <a:t>gli alunni che </a:t>
            </a:r>
            <a:r>
              <a:rPr b="1" lang="it-IT" sz="1600" spc="-1" strike="noStrike">
                <a:solidFill>
                  <a:srgbClr val="cc3300"/>
                </a:solidFill>
                <a:latin typeface="Arial"/>
                <a:ea typeface="Times New Roman"/>
              </a:rPr>
              <a:t>frequentano</a:t>
            </a:r>
            <a:r>
              <a:rPr b="1" lang="it-IT" sz="1600" spc="-1" strike="noStrike">
                <a:solidFill>
                  <a:srgbClr val="15009d"/>
                </a:solidFill>
                <a:latin typeface="Arial"/>
                <a:ea typeface="Times New Roman"/>
              </a:rPr>
              <a:t> le scuole della regione Emilia-Romagna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5009d"/>
                </a:solidFill>
                <a:latin typeface="Arial"/>
                <a:ea typeface="Times New Roman"/>
              </a:rPr>
              <a:t>  </a:t>
            </a:r>
            <a:r>
              <a:rPr b="1" lang="it-IT" sz="1600" spc="-1" strike="noStrike">
                <a:solidFill>
                  <a:srgbClr val="15009d"/>
                </a:solidFill>
                <a:latin typeface="Arial"/>
                <a:ea typeface="Times New Roman"/>
              </a:rPr>
              <a:t>gli alunni </a:t>
            </a:r>
            <a:r>
              <a:rPr b="1" lang="it-IT" sz="1600" spc="-1" strike="noStrike">
                <a:solidFill>
                  <a:srgbClr val="cc3300"/>
                </a:solidFill>
                <a:latin typeface="Arial"/>
                <a:ea typeface="Times New Roman"/>
              </a:rPr>
              <a:t>stranieri</a:t>
            </a:r>
            <a:r>
              <a:rPr b="1" lang="it-IT" sz="1600" spc="-1" strike="noStrike">
                <a:solidFill>
                  <a:srgbClr val="15009d"/>
                </a:solidFill>
                <a:latin typeface="Arial"/>
                <a:ea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5009d"/>
                </a:solidFill>
                <a:latin typeface="Arial"/>
                <a:ea typeface="Times New Roman"/>
              </a:rPr>
              <a:t>  </a:t>
            </a:r>
            <a:r>
              <a:rPr b="1" lang="it-IT" sz="1600" spc="-1" strike="noStrike">
                <a:solidFill>
                  <a:srgbClr val="15009d"/>
                </a:solidFill>
                <a:latin typeface="Arial"/>
                <a:ea typeface="Times New Roman"/>
              </a:rPr>
              <a:t>gli alunni </a:t>
            </a:r>
            <a:r>
              <a:rPr b="1" lang="it-IT" sz="1600" spc="-1" strike="noStrike">
                <a:solidFill>
                  <a:srgbClr val="cc3300"/>
                </a:solidFill>
                <a:latin typeface="Arial"/>
                <a:ea typeface="Times New Roman"/>
              </a:rPr>
              <a:t>diversamente abili</a:t>
            </a:r>
            <a:r>
              <a:rPr b="1" lang="it-IT" sz="1600" spc="-1" strike="noStrike">
                <a:solidFill>
                  <a:srgbClr val="15009d"/>
                </a:solidFill>
                <a:latin typeface="Arial"/>
                <a:ea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5009d"/>
                </a:solidFill>
                <a:latin typeface="Arial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15009d"/>
                </a:solidFill>
                <a:latin typeface="Arial"/>
                <a:ea typeface="Times New Roman"/>
              </a:rPr>
              <a:t>i giovani a </a:t>
            </a:r>
            <a:r>
              <a:rPr b="1" lang="it-IT" sz="1600" spc="-1" strike="noStrike">
                <a:solidFill>
                  <a:srgbClr val="cc3300"/>
                </a:solidFill>
                <a:latin typeface="Arial"/>
                <a:ea typeface="Times New Roman"/>
              </a:rPr>
              <a:t>rischio dispersione</a:t>
            </a:r>
            <a:r>
              <a:rPr b="1" lang="it-IT" sz="1600" spc="-1" strike="noStrike">
                <a:solidFill>
                  <a:srgbClr val="15009d"/>
                </a:solidFill>
                <a:latin typeface="Arial"/>
                <a:ea typeface="Times New Roman"/>
              </a:rPr>
              <a:t> scolastica e formativ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500040" y="3286080"/>
            <a:ext cx="8072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99"/>
                </a:solidFill>
                <a:uFillTx/>
                <a:latin typeface="Arial"/>
              </a:rPr>
              <a:t>Obiettivi strategici  dell’Anagrafe Regiona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Costruire un </a:t>
            </a:r>
            <a:r>
              <a:rPr b="1" lang="it-IT" sz="1800" spc="-1" strike="noStrike">
                <a:solidFill>
                  <a:srgbClr val="990000"/>
                </a:solidFill>
                <a:latin typeface="Arial"/>
              </a:rPr>
              <a:t>sistema informativo scolastico integrato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a sostegno del sistema di istruzione della Regione Emilia-Romagn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Costruire di un sistema unico di </a:t>
            </a:r>
            <a:r>
              <a:rPr b="1" lang="it-IT" sz="1800" spc="-1" strike="noStrike">
                <a:solidFill>
                  <a:srgbClr val="990000"/>
                </a:solidFill>
                <a:latin typeface="Arial"/>
              </a:rPr>
              <a:t>documentazione, conoscenza, programmazione e monitoraggio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della scolarità regionale e dei processi formativi fondato su una logica di network per definire obiettivi e metodi condiv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26920" y="2071440"/>
            <a:ext cx="781704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  <a:ea typeface="Arial"/>
              </a:rPr>
              <a:t>Al termine di ogni rilevazione l’incrocio delle informazioni anagrafiche provenienti dalle banche dat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it-IT" sz="2500" spc="-1" strike="noStrike">
                <a:solidFill>
                  <a:srgbClr val="cc3300"/>
                </a:solidFill>
                <a:latin typeface="Arial"/>
                <a:ea typeface="Arial"/>
              </a:rPr>
              <a:t>sistema scolastic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it-IT" sz="2500" spc="-1" strike="noStrike">
                <a:solidFill>
                  <a:srgbClr val="cc3300"/>
                </a:solidFill>
                <a:latin typeface="Arial"/>
                <a:ea typeface="Arial"/>
              </a:rPr>
              <a:t>formazione professiona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it-IT" sz="2500" spc="-1" strike="noStrike">
                <a:solidFill>
                  <a:srgbClr val="cc3300"/>
                </a:solidFill>
                <a:latin typeface="Arial"/>
                <a:ea typeface="Arial"/>
              </a:rPr>
              <a:t>apprendistat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it-IT" sz="2500" spc="-1" strike="noStrike">
                <a:solidFill>
                  <a:srgbClr val="cc3300"/>
                </a:solidFill>
                <a:latin typeface="Arial"/>
                <a:ea typeface="Arial"/>
              </a:rPr>
              <a:t>anagrafe dei giovani residenti</a:t>
            </a:r>
            <a:br>
              <a:rPr sz="2500"/>
            </a:br>
            <a:r>
              <a:rPr b="1" lang="it-IT" sz="25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  <a:ea typeface="Arial"/>
              </a:rPr>
              <a:t>permette di individuare i giovani a rischio </a:t>
            </a:r>
            <a:r>
              <a:rPr b="1" lang="it-IT" sz="2000" spc="-1" strike="noStrike">
                <a:solidFill>
                  <a:srgbClr val="cc3300"/>
                </a:solidFill>
                <a:latin typeface="Arial"/>
                <a:ea typeface="Arial"/>
              </a:rPr>
              <a:t>"dispersione"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  <a:ea typeface="Arial"/>
              </a:rPr>
              <a:t>e di attivare tutte le misure di sostegno e di orientame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755640" y="1341360"/>
            <a:ext cx="54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39640" y="134136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0504d"/>
                </a:solidFill>
                <a:latin typeface="Arial"/>
              </a:rPr>
              <a:t>Individuare i giovani a rischio dispers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tangolo 5"/>
          <p:cNvSpPr/>
          <p:nvPr/>
        </p:nvSpPr>
        <p:spPr>
          <a:xfrm>
            <a:off x="1835280" y="1628640"/>
            <a:ext cx="695952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alla rilevazione di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ottobre 200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120.000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 stud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studenti in obbligo formativo – leve 14-17 an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scuole superiori e l’ultima classe della scuola med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lla rilevazione di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ottobre 2008 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Il monitoraggio ha coinvolto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450.000</a:t>
            </a: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stud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744</a:t>
            </a: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Istituzioni scolasti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1.055</a:t>
            </a:r>
            <a:r>
              <a:rPr b="0" lang="it-IT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plessi di scuola prima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440</a:t>
            </a: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plessi di scuola secondaria di 1° 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343</a:t>
            </a: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plessi si scuole secondaria di 2° gr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500040" y="10000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00"/>
                </a:solidFill>
                <a:latin typeface="Arial"/>
              </a:rPr>
              <a:t>ARS - risultati raggiu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324000" y="1844640"/>
            <a:ext cx="1081080" cy="3384720"/>
          </a:xfrm>
          <a:custGeom>
            <a:avLst/>
            <a:gdLst>
              <a:gd name="textAreaLeft" fmla="*/ 144720 w 1081080"/>
              <a:gd name="textAreaRight" fmla="*/ 936360 w 1081080"/>
              <a:gd name="textAreaTop" fmla="*/ 592200 h 3384720"/>
              <a:gd name="textAreaBottom" fmla="*/ 24541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alibri"/>
              </a:rPr>
              <a:t>Banche dati anagrafiche consultabili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5651640" y="3213000"/>
            <a:ext cx="1800000" cy="486000"/>
          </a:xfrm>
          <a:prstGeom prst="leftArrow">
            <a:avLst>
              <a:gd name="adj1" fmla="val 41833"/>
              <a:gd name="adj2" fmla="val 9276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0"/>
          <p:cNvSpPr/>
          <p:nvPr/>
        </p:nvSpPr>
        <p:spPr>
          <a:xfrm>
            <a:off x="5651640" y="3713040"/>
            <a:ext cx="1800000" cy="486000"/>
          </a:xfrm>
          <a:prstGeom prst="leftArrow">
            <a:avLst>
              <a:gd name="adj1" fmla="val 41833"/>
              <a:gd name="adj2" fmla="val 9276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1"/>
          <p:cNvSpPr/>
          <p:nvPr/>
        </p:nvSpPr>
        <p:spPr>
          <a:xfrm>
            <a:off x="5724360" y="5300640"/>
            <a:ext cx="1800360" cy="485640"/>
          </a:xfrm>
          <a:prstGeom prst="leftArrow">
            <a:avLst>
              <a:gd name="adj1" fmla="val 41833"/>
              <a:gd name="adj2" fmla="val 9285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2"/>
          <p:cNvSpPr/>
          <p:nvPr/>
        </p:nvSpPr>
        <p:spPr>
          <a:xfrm>
            <a:off x="5724360" y="5872320"/>
            <a:ext cx="1800360" cy="485640"/>
          </a:xfrm>
          <a:prstGeom prst="leftArrow">
            <a:avLst>
              <a:gd name="adj1" fmla="val 41833"/>
              <a:gd name="adj2" fmla="val 9285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Immagine 8" descr="banche_dati.jpg"/>
          <p:cNvPicPr/>
          <p:nvPr/>
        </p:nvPicPr>
        <p:blipFill>
          <a:blip r:embed="rId1"/>
          <a:stretch/>
        </p:blipFill>
        <p:spPr>
          <a:xfrm>
            <a:off x="1009800" y="1714680"/>
            <a:ext cx="4429080" cy="45367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539640" y="1125360"/>
            <a:ext cx="83440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nagrafe Scuola: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nalisi statist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0" descr="ripartizione2"/>
          <p:cNvPicPr/>
          <p:nvPr/>
        </p:nvPicPr>
        <p:blipFill>
          <a:blip r:embed="rId1"/>
          <a:stretch/>
        </p:blipFill>
        <p:spPr>
          <a:xfrm>
            <a:off x="857160" y="1857240"/>
            <a:ext cx="7000920" cy="40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ircl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539640" y="1125360"/>
            <a:ext cx="83440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nagrafe Scuola: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nitoraggio mobil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9" descr="ripartizioni3"/>
          <p:cNvPicPr/>
          <p:nvPr/>
        </p:nvPicPr>
        <p:blipFill>
          <a:blip r:embed="rId1"/>
          <a:stretch/>
        </p:blipFill>
        <p:spPr>
          <a:xfrm>
            <a:off x="1214280" y="1857240"/>
            <a:ext cx="6286680" cy="361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ircl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539640" y="1125360"/>
            <a:ext cx="83440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l percorso formativo del giov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Immagine 10" descr="percorso.jpg"/>
          <p:cNvPicPr/>
          <p:nvPr/>
        </p:nvPicPr>
        <p:blipFill>
          <a:blip r:embed="rId1"/>
          <a:stretch/>
        </p:blipFill>
        <p:spPr>
          <a:xfrm>
            <a:off x="642960" y="2000160"/>
            <a:ext cx="7743960" cy="3848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774252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3300"/>
                </a:solidFill>
                <a:latin typeface="Calibri"/>
              </a:rPr>
              <a:t>Tabelle indicatori: query ARS (1) </a:t>
            </a:r>
            <a:r>
              <a:rPr b="1" lang="it-IT" sz="3600" spc="-1" strike="noStrike">
                <a:solidFill>
                  <a:srgbClr val="cc33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468360" y="2060640"/>
            <a:ext cx="806904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6400" indent="-536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71680" y="1857240"/>
          <a:ext cx="8072280" cy="4143600"/>
        </p:xfrm>
        <a:graphic>
          <a:graphicData uri="http://schemas.openxmlformats.org/drawingml/2006/table">
            <a:tbl>
              <a:tblPr/>
              <a:tblGrid>
                <a:gridCol w="1307880"/>
                <a:gridCol w="6764400"/>
              </a:tblGrid>
              <a:tr h="343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Tabella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ati Iscrit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scuole di ogni ordine, grado e gest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Query ARS: </a:t>
                      </a:r>
                      <a:r>
                        <a:rPr b="1" lang="it-IT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Livelli di approfondimento e ripartizio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er provi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er comu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er istituzione scola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er plesso scolas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er tipologia di scuola secondaria superi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er anno di cor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er anni di nasci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er gene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er cittadinanza ( italiana, non italiana, ripartizione per paesi stranier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er residenza (in regione, extra-regi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er comune di reside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residenti in provincia rilevati in scuole di altra provincia della reg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siti scolastic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ortatori di handicap certificato ( solo dato numeric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Obbligo Form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osizione – frequenta, ritirato, trasferito – con dettaglio di scuola di trasferi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5:07:48Z</dcterms:created>
  <dc:creator>Silvia Mossini</dc:creator>
  <dc:description/>
  <dc:language>en-US</dc:language>
  <cp:lastModifiedBy>Silvia Mossini</cp:lastModifiedBy>
  <dcterms:modified xsi:type="dcterms:W3CDTF">2008-12-11T12:09:46Z</dcterms:modified>
  <cp:revision>177</cp:revision>
  <dc:subject/>
  <dc:title>Diapositiva 1</dc:title>
</cp:coreProperties>
</file>